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CB5A6-3E40-45AB-9CD5-39CDB75936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A077A-20CA-454F-B231-9CBC0EE90E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4BE7E-9F65-4E70-9F08-5442ABE4C9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5D2F1-47C7-45D8-B98C-C0F4F5148E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629E6-0835-4FDD-A74A-A019BDCFAA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89AB0-E651-4103-A272-0B6521388E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3BA74-3F14-4463-84A3-E4D5545EC2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7A258-050B-4597-9879-8B35295C68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C30E1-8316-4F26-91B9-50EE83BDFB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0828B-36C2-4B09-83DD-9D21180279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74104-A54D-4C1D-8616-034E2AA380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40BC7-2124-45DC-B0AC-003F41D4BE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14398-6D48-4B86-BA23-73983816096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74D1E-9989-4338-B2E0-4E33F524F98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2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Double Click to 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A4589-6BBD-41DB-A305-EF610EAC829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F4FC0-5F1D-44F0-A0CC-9FE234BA199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31BA7-FD13-4408-B64F-D3FED59B576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6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42E95-6A34-478E-B4BC-60F8997545F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s.yearley</cp:lastModifiedBy>
  <dcterms:modified xsi:type="dcterms:W3CDTF">2012-06-07T15:03:01Z</dcterms:modified>
  <cp:revision>9</cp:revision>
  <dc:subject/>
  <dc:title>&lt;Title&gt;</dc:title>
</cp:coreProperties>
</file>